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40F5-86AC-4A44-9725-1F6067532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666288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566720" y="4257720"/>
            <a:ext cx="666288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1D83-427D-417D-B646-BD7404A66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56672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98096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150A-09C8-42D4-B5D9-6728BC5D1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19600" y="26935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72480" y="26935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566720" y="42577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819600" y="42577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72480" y="42577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12ED-A1AD-44DF-9059-0AC2FB22E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54968-2F61-4E5D-A243-7FF0BEE58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BAC2A-A9F6-4125-9C2D-6F110E1C1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816FA-5CE1-4E2A-A094-AF6B8B105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63425-1D82-4007-AF82-ACCD90D1A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A16B6-F7EB-4484-91C2-3173B2102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169640" y="1045800"/>
            <a:ext cx="7380360" cy="46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38253-1CE0-495E-8FF7-8BA173F71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56672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968BC-6C5E-414A-AB62-CA217966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B608-5454-4D00-9A15-0A21F8486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98096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E8353-54EA-4615-AA2D-71210CAA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566720" y="4257720"/>
            <a:ext cx="666288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CED55-4F97-4B28-8635-02DE60BE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666288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1566720" y="4257720"/>
            <a:ext cx="666288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0C211-8CB3-4EC2-ADDA-482EA15A0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56672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98096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728ED-FD1B-400E-AC7E-2D2ED3978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819600" y="26935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72480" y="26935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1566720" y="42577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819600" y="42577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72480" y="42577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D6077-6414-4D48-AD81-274CD68B5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BAA5-D853-4121-B8B7-82F884D26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8247-CBEC-4BB5-B88A-CDFFD0807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1959-7F39-4E44-9442-037A0654F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69640" y="1045800"/>
            <a:ext cx="7380360" cy="46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CA36-05D2-4907-B12A-BC5728D50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56672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304F-127E-40CC-BCFE-243882C1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98096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4BA5-040B-4A29-8E6E-CAC51B86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566720" y="4257720"/>
            <a:ext cx="666288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2335-27D1-410A-BA02-FE23D78C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5C8C1-DB12-47E5-9E2A-6339A7CF9972}" type="slidenum"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E6E27-6E52-4295-B544-5044D60B3474}" type="slidenum"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99"/>
                </a:solidFill>
                <a:latin typeface="Times New Roman"/>
              </a:rPr>
              <a:t>How to make yourself happy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9.</a:t>
            </a: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Forgive other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8" name="9。学会宽恕他人" descr=""/>
          <p:cNvPicPr/>
          <p:nvPr/>
        </p:nvPicPr>
        <p:blipFill>
          <a:blip r:embed="rId1"/>
          <a:stretch/>
        </p:blipFill>
        <p:spPr>
          <a:xfrm>
            <a:off x="1828800" y="2422440"/>
            <a:ext cx="6172200" cy="35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70000" y="1045800"/>
            <a:ext cx="75931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10.</a:t>
            </a: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Have some really good friend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0" name="10。有几个知心朋友" descr=""/>
          <p:cNvPicPr/>
          <p:nvPr/>
        </p:nvPicPr>
        <p:blipFill>
          <a:blip r:embed="rId1"/>
          <a:stretch/>
        </p:blipFill>
        <p:spPr>
          <a:xfrm>
            <a:off x="2057400" y="2362320"/>
            <a:ext cx="57913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19320" y="990360"/>
            <a:ext cx="73800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11.</a:t>
            </a: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Always work in a team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2" name="11。常和别人保持合作,并从中获得乐趣" descr=""/>
          <p:cNvPicPr/>
          <p:nvPr/>
        </p:nvPicPr>
        <p:blipFill>
          <a:blip r:embed="rId1"/>
          <a:stretch/>
        </p:blipFill>
        <p:spPr>
          <a:xfrm>
            <a:off x="5635800" y="2362320"/>
            <a:ext cx="30510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7454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12.</a:t>
            </a: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Enjoy the family gathering tim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4" name="12。享受你的天伦之乐" descr=""/>
          <p:cNvPicPr/>
          <p:nvPr/>
        </p:nvPicPr>
        <p:blipFill>
          <a:blip r:embed="rId1"/>
          <a:stretch/>
        </p:blipFill>
        <p:spPr>
          <a:xfrm>
            <a:off x="1905120" y="2362320"/>
            <a:ext cx="5867280" cy="44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13. </a:t>
            </a: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Be confident and proud of yourself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6" name="13。保持高度的自信心" descr=""/>
          <p:cNvPicPr/>
          <p:nvPr/>
        </p:nvPicPr>
        <p:blipFill>
          <a:blip r:embed="rId1"/>
          <a:stretch/>
        </p:blipFill>
        <p:spPr>
          <a:xfrm>
            <a:off x="2895480" y="2362320"/>
            <a:ext cx="3880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14.</a:t>
            </a: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Respect the weak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8" name="14。尊重弱者" descr=""/>
          <p:cNvPicPr/>
          <p:nvPr/>
        </p:nvPicPr>
        <p:blipFill>
          <a:blip r:embed="rId1"/>
          <a:srcRect l="0" t="0" r="0" b="7290"/>
          <a:stretch/>
        </p:blipFill>
        <p:spPr>
          <a:xfrm>
            <a:off x="1828800" y="2370240"/>
            <a:ext cx="611496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80520" y="761760"/>
            <a:ext cx="85345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15.</a:t>
            </a: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Indulge yourself, sometim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0" name="15。偶尔放纵自己一下" descr=""/>
          <p:cNvPicPr/>
          <p:nvPr/>
        </p:nvPicPr>
        <p:blipFill>
          <a:blip r:embed="rId1"/>
          <a:stretch/>
        </p:blipFill>
        <p:spPr>
          <a:xfrm>
            <a:off x="5181480" y="2362320"/>
            <a:ext cx="34434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1045800"/>
            <a:ext cx="73915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16.</a:t>
            </a: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Work from time to tim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2" name="16。有空来POP论坛坐坐" descr=""/>
          <p:cNvPicPr/>
          <p:nvPr/>
        </p:nvPicPr>
        <p:blipFill>
          <a:blip r:embed="rId1"/>
          <a:stretch/>
        </p:blipFill>
        <p:spPr>
          <a:xfrm>
            <a:off x="2209680" y="2438280"/>
            <a:ext cx="514368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17.</a:t>
            </a: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Be brave and courageou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4" name="16。有空来家坛坐坐" descr=""/>
          <p:cNvPicPr/>
          <p:nvPr/>
        </p:nvPicPr>
        <p:blipFill>
          <a:blip r:embed="rId1"/>
          <a:srcRect l="0" t="11014" r="0" b="0"/>
          <a:stretch/>
        </p:blipFill>
        <p:spPr>
          <a:xfrm>
            <a:off x="2133720" y="3200400"/>
            <a:ext cx="571500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838080"/>
            <a:ext cx="807732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18.</a:t>
            </a: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Finally, don’t be a moneygrubber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6" name="18。最后，不要财迷" descr=""/>
          <p:cNvPicPr/>
          <p:nvPr/>
        </p:nvPicPr>
        <p:blipFill>
          <a:blip r:embed="rId1"/>
          <a:stretch/>
        </p:blipFill>
        <p:spPr>
          <a:xfrm>
            <a:off x="4876920" y="2286000"/>
            <a:ext cx="34480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1. </a:t>
            </a: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Have targets and goal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2" name="要有目标和追求" descr=""/>
          <p:cNvPicPr/>
          <p:nvPr/>
        </p:nvPicPr>
        <p:blipFill>
          <a:blip r:embed="rId1"/>
          <a:srcRect l="0" t="0" r="0" b="3583"/>
          <a:stretch/>
        </p:blipFill>
        <p:spPr>
          <a:xfrm>
            <a:off x="2133720" y="2362320"/>
            <a:ext cx="5715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2.</a:t>
            </a: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Smile alway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2133720" y="2666880"/>
            <a:ext cx="527184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70000" y="1045800"/>
            <a:ext cx="75931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3.</a:t>
            </a: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Share the happiness with other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6" name="3。学会和别人一块分享喜悦" descr=""/>
          <p:cNvPicPr/>
          <p:nvPr/>
        </p:nvPicPr>
        <p:blipFill>
          <a:blip r:embed="rId1"/>
          <a:srcRect l="0" t="0" r="0" b="8317"/>
          <a:stretch/>
        </p:blipFill>
        <p:spPr>
          <a:xfrm>
            <a:off x="2057400" y="2438280"/>
            <a:ext cx="5715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4.</a:t>
            </a: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Willing to help other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8" name="4。乐于助人" descr=""/>
          <p:cNvPicPr/>
          <p:nvPr/>
        </p:nvPicPr>
        <p:blipFill>
          <a:blip r:embed="rId1"/>
          <a:stretch/>
        </p:blipFill>
        <p:spPr>
          <a:xfrm>
            <a:off x="1981080" y="2590920"/>
            <a:ext cx="586764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5.</a:t>
            </a: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Keep a childlike hear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5。并保持自己的一颗童心" descr=""/>
          <p:cNvPicPr/>
          <p:nvPr/>
        </p:nvPicPr>
        <p:blipFill>
          <a:blip r:embed="rId1"/>
          <a:stretch/>
        </p:blipFill>
        <p:spPr>
          <a:xfrm>
            <a:off x="3048120" y="2438280"/>
            <a:ext cx="34401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61760" y="1045800"/>
            <a:ext cx="7848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6.</a:t>
            </a: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Get on well with different kinds of peopl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2" name="6。学会和各种人愉快的相处" descr=""/>
          <p:cNvPicPr/>
          <p:nvPr/>
        </p:nvPicPr>
        <p:blipFill>
          <a:blip r:embed="rId1"/>
          <a:stretch/>
        </p:blipFill>
        <p:spPr>
          <a:xfrm>
            <a:off x="1905120" y="2438280"/>
            <a:ext cx="563868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7。保持幽默感" descr=""/>
          <p:cNvPicPr/>
          <p:nvPr/>
        </p:nvPicPr>
        <p:blipFill>
          <a:blip r:embed="rId1"/>
          <a:srcRect l="0" t="4546" r="0" b="0"/>
          <a:stretch/>
        </p:blipFill>
        <p:spPr>
          <a:xfrm>
            <a:off x="2666880" y="2362320"/>
            <a:ext cx="4114800" cy="434340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66320" y="83808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7.</a:t>
            </a: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Keep the sense of humor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7454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8.</a:t>
            </a: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Keep calm when surprise com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6" name="8。要能处乱不惊" descr=""/>
          <p:cNvPicPr/>
          <p:nvPr/>
        </p:nvPicPr>
        <p:blipFill>
          <a:blip r:embed="rId1"/>
          <a:stretch/>
        </p:blipFill>
        <p:spPr>
          <a:xfrm>
            <a:off x="1752480" y="2438280"/>
            <a:ext cx="6248520" cy="4162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0T12:15:13Z</dcterms:created>
  <dc:creator>Vimal</dc:creator>
  <dc:description/>
  <dc:language>en-US</dc:language>
  <cp:lastModifiedBy>Neelima</cp:lastModifiedBy>
  <dcterms:modified xsi:type="dcterms:W3CDTF">2003-06-15T00:48:54Z</dcterms:modified>
  <cp:revision>20</cp:revision>
  <dc:subject/>
  <dc:title>Happy</dc:title>
</cp:coreProperties>
</file>