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89E-C5FE-4EF6-86EF-95FDD3FC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2EA-E7CA-410D-9D4D-43DB6A25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5B4-031F-4CBB-BD0A-FED4D135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77A-3257-45BD-8093-20990E18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D52-6FF7-49FC-8A7D-4AE98D45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DAB-BA86-4C79-A6F5-BA202BB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1F53-F005-4585-A7E3-9FDF27EB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FF85-5510-466E-9AB3-2C959856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619-7BA1-48ED-959D-7D31C490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82C-F77B-460F-B3D7-40E2E10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FCA-E57D-40C8-AD50-11DF530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6C7-1730-4FEE-9A87-B0AD458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6318-E66D-4E96-9BAE-69E2D8B1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6B2-F103-4A27-81D8-B99E17D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2D13-E111-471B-82CD-31FC4E4B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D6BA-1AD9-402A-B85B-472AE894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5D0-5CDB-42E0-9D9B-424CF546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E2F-DE0F-4668-AE41-82F7F63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409-027A-451C-838A-89773BB4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CF3-865E-4D66-BFB6-AC02022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9DE-13E7-4B5B-995F-ECB606BD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42C-52CE-4131-AE73-EA9E172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C3E-8C3A-48D8-A7D0-548721F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EEF-C618-46E2-96E2-6631A5D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C9B-EFCC-4A7B-A3FC-E031F9ACD4E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558-9362-412D-BDBA-DBEBAFB47AD8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ow to make yourself happ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orgive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9。学会宽恕他人" descr=""/>
          <p:cNvPicPr/>
          <p:nvPr/>
        </p:nvPicPr>
        <p:blipFill>
          <a:blip r:embed="rId1"/>
          <a:stretch/>
        </p:blipFill>
        <p:spPr>
          <a:xfrm>
            <a:off x="1828800" y="2422440"/>
            <a:ext cx="6172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93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ve some really good friend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10。有几个知心朋友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lways work in a tea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11。常和别人保持合作,并从中获得乐趣" descr=""/>
          <p:cNvPicPr/>
          <p:nvPr/>
        </p:nvPicPr>
        <p:blipFill>
          <a:blip r:embed="rId1"/>
          <a:stretch/>
        </p:blipFill>
        <p:spPr>
          <a:xfrm>
            <a:off x="5635800" y="2362320"/>
            <a:ext cx="305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2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njoy the family gathering ti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12。享受你的天伦之乐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3.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 confident and proud of yourself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13。保持高度的自信心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8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4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spect the wea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14。尊重弱者" descr=""/>
          <p:cNvPicPr/>
          <p:nvPr/>
        </p:nvPicPr>
        <p:blipFill>
          <a:blip r:embed="rId1"/>
          <a:srcRect l="0" t="0" r="0" b="7290"/>
          <a:stretch/>
        </p:blipFill>
        <p:spPr>
          <a:xfrm>
            <a:off x="1828800" y="2370240"/>
            <a:ext cx="6114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5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dulge yourself, sometim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15。偶尔放纵自己一下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44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045800"/>
            <a:ext cx="73915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6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ork from time to ti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16。有空来POP论坛坐坐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436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7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 brave and courageou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4" name="16。有空来家坛坐坐" descr=""/>
          <p:cNvPicPr/>
          <p:nvPr/>
        </p:nvPicPr>
        <p:blipFill>
          <a:blip r:embed="rId1"/>
          <a:srcRect l="0" t="11014" r="0" b="0"/>
          <a:stretch/>
        </p:blipFill>
        <p:spPr>
          <a:xfrm>
            <a:off x="2133720" y="3200400"/>
            <a:ext cx="5715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7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8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inally, don’t be a moneygrubb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18。最后，不要财迷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44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ve targets and goa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要有目标和追求" descr=""/>
          <p:cNvPicPr/>
          <p:nvPr/>
        </p:nvPicPr>
        <p:blipFill>
          <a:blip r:embed="rId1"/>
          <a:srcRect l="0" t="0" r="0" b="3583"/>
          <a:stretch/>
        </p:blipFill>
        <p:spPr>
          <a:xfrm>
            <a:off x="2133720" y="23623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mile al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2718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931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hare the happiness with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3。学会和别人一块分享喜悦" descr=""/>
          <p:cNvPicPr/>
          <p:nvPr/>
        </p:nvPicPr>
        <p:blipFill>
          <a:blip r:embed="rId1"/>
          <a:srcRect l="0" t="0" r="0" b="8317"/>
          <a:stretch/>
        </p:blipFill>
        <p:spPr>
          <a:xfrm>
            <a:off x="2057400" y="243828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illing to help oth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4。乐于助人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867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a childlike hear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5。并保持自己的一颗童心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1045800"/>
            <a:ext cx="7848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et on well with different kinds of peo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6。学会和各种人愉快的相处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638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7。保持幽默感" descr=""/>
          <p:cNvPicPr/>
          <p:nvPr/>
        </p:nvPicPr>
        <p:blipFill>
          <a:blip r:embed="rId1"/>
          <a:srcRect l="0" t="4546" r="0" b="0"/>
          <a:stretch/>
        </p:blipFill>
        <p:spPr>
          <a:xfrm>
            <a:off x="2666880" y="23623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the sense of hum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745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ep calm when surprise com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8。要能处乱不惊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6248520" cy="41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2:15:13Z</dcterms:created>
  <dc:creator>Vimal</dc:creator>
  <dc:description/>
  <dc:language>en-US</dc:language>
  <cp:lastModifiedBy>Neelima</cp:lastModifiedBy>
  <dcterms:modified xsi:type="dcterms:W3CDTF">2003-06-15T00:48:54Z</dcterms:modified>
  <cp:revision>20</cp:revision>
  <dc:subject/>
  <dc:title>Happy</dc:title>
</cp:coreProperties>
</file>